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8A45-0A26-43CD-99F8-30F9801A4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7E67-2833-4082-A221-41809B298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3B19-EBBF-4620-B57F-84502C130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C930-3C63-49D6-8E31-70A3D3C8E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B317-99AF-4010-9732-EF792DAA7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EA7A-402C-4F00-8930-779C65078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C424-DE2E-4E74-96EA-1BCF9E872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9BA0-5CEE-4937-921B-037282048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9B53-AD07-466B-BB0E-8811A5123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54A6-1F44-4A8E-B0DC-9637E084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3F84-17B0-40ED-9678-954D55F2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E88A-1EEC-4017-ACA5-89266B1A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247ED-A453-49AB-8E4E-4A9DD0987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x88x.com/2008/O7P98609.bmp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611280" y="404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979640" y="0"/>
            <a:ext cx="5543640" cy="713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هاهي السماء تمطر م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لتزرع في الارض الكس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تصرخ الدنيا ك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حتى العظام وحتى الق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الآن توقف ا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فاليأس قاتل الا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فلا طريق للعل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لا طريق ل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فبلوغ المنا صعب المنا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صعود السلالم للجب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صعب وأصعب ا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لون الكآبة اشتع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لون الدنيا ك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44000" y="1773360"/>
            <a:ext cx="90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 rot="17539200">
            <a:off x="5269320" y="2586240"/>
            <a:ext cx="4721400" cy="20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94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ffcc99"/>
                    </a:gs>
                  </a:gsLst>
                  <a:lin ang="17562000"/>
                </a:gradFill>
                <a:latin typeface="Arial Black"/>
              </a:rPr>
              <a:t>الملل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00"/>
                  </a:gs>
                  <a:gs pos="100000">
                    <a:srgbClr val="ffcc99"/>
                  </a:gs>
                </a:gsLst>
                <a:lin ang="17562000"/>
              </a:gradFill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 rot="17503200">
            <a:off x="-273600" y="2804040"/>
            <a:ext cx="39513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4588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ffcc99"/>
                    </a:gs>
                  </a:gsLst>
                  <a:lin ang="17598000"/>
                </a:gradFill>
                <a:latin typeface="Arial Black"/>
              </a:rPr>
              <a:t>قاتل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9900"/>
                  </a:gs>
                  <a:gs pos="100000">
                    <a:srgbClr val="ffcc99"/>
                  </a:gs>
                </a:gsLst>
                <a:lin ang="17598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324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77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770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" dur="1" fill="hold"/>
                                  <p:tgtEl>
                                    <p:spTgt spid="4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5002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1T17:03:01Z</dcterms:created>
  <dc:creator>ALI</dc:creator>
  <dc:description/>
  <dc:language>en-US</dc:language>
  <cp:lastModifiedBy>ALI</cp:lastModifiedBy>
  <dcterms:modified xsi:type="dcterms:W3CDTF">2008-07-21T18:29:19Z</dcterms:modified>
  <cp:revision>2</cp:revision>
  <dc:subject/>
  <dc:title>الشريحة 1</dc:title>
</cp:coreProperties>
</file>