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0297-D515-414A-893E-BAA02C0C9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E03A-3DB4-4F0E-8EFF-41EE826F0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A1E4-7CA1-4C3F-994A-2DEE9B2CC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2AD7-D8C7-4F74-B28A-A96CCDEFB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8B59-81B4-4C2E-8E27-23716DACB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6AC0-3B68-4BBF-9BE8-7EF00A4A8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8F96-C93E-42FB-A127-A2A3D0ADC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268C-AB8E-486F-A693-E8CE2E4CA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A6D0-E14C-41F4-B733-68849EC3F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1527-E7E7-4000-8EDE-931F1D79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8B06-18DF-48AA-9F8E-806A9F56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CED8-271E-475C-88A8-E99F98FA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7864D-D327-4F1B-9F92-C62304396E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x88x.com/2008/O7P98609.bmp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611280" y="404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979640" y="0"/>
            <a:ext cx="5543640" cy="713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هاهي السماء تمطر م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لتزرع في الارض الكس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تصرخ الدنيا ك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حتى العظام وحتى الق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الآن توقف ا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فاليأس قاتل الا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فلا طريق للعل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لا طريق ل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فبلوغ المنا صعب المنا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صعود السلالم للجب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صعب وأصعب ا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لون الكآبة اشتع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لون الدنيا ك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44000" y="1773360"/>
            <a:ext cx="90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 rot="17539200">
            <a:off x="5269320" y="2586240"/>
            <a:ext cx="4721400" cy="20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94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ffcc99"/>
                    </a:gs>
                  </a:gsLst>
                  <a:lin ang="17562000"/>
                </a:gradFill>
                <a:latin typeface="Arial Black"/>
              </a:rPr>
              <a:t>الملل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00"/>
                  </a:gs>
                  <a:gs pos="100000">
                    <a:srgbClr val="ffcc99"/>
                  </a:gs>
                </a:gsLst>
                <a:lin ang="17562000"/>
              </a:gradFill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 rot="17503200">
            <a:off x="-273600" y="2804040"/>
            <a:ext cx="39513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4588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ffcc99"/>
                    </a:gs>
                  </a:gsLst>
                  <a:lin ang="17598000"/>
                </a:gradFill>
                <a:latin typeface="Arial Black"/>
              </a:rPr>
              <a:t>قاتل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9900"/>
                  </a:gs>
                  <a:gs pos="100000">
                    <a:srgbClr val="ffcc99"/>
                  </a:gs>
                </a:gsLst>
                <a:lin ang="17598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324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77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770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" dur="1" fill="hold"/>
                                  <p:tgtEl>
                                    <p:spTgt spid="4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5002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1T17:03:01Z</dcterms:created>
  <dc:creator>ALI</dc:creator>
  <dc:description/>
  <dc:language>en-US</dc:language>
  <cp:lastModifiedBy>ALI</cp:lastModifiedBy>
  <dcterms:modified xsi:type="dcterms:W3CDTF">2008-07-21T18:29:19Z</dcterms:modified>
  <cp:revision>2</cp:revision>
  <dc:subject/>
  <dc:title>الشريحة 1</dc:title>
</cp:coreProperties>
</file>