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ABE0-AA25-4953-A66F-CAFC48DE7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63E0-D26E-41C1-819F-4F2E48F45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01F2-687D-48C2-A012-6723B16CD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3858-ECD8-4B45-B450-C2E43F81A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8D2F-F125-4A8E-BCE5-469AE93CC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4C6C-8ED1-4BA1-B1C4-64677ABAF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1E61-D397-4690-BBF4-1DE407223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5702-575F-4B03-9A45-158E91462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4D38-C83C-4749-923F-8825F084C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7CF6-5AB2-4D59-95F1-2B9BE8A04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AAD2-61ED-44C3-BEA7-13C1477AB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FF92-F4FC-406B-ACF8-406FDBAB7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CE97-03D9-4A3B-BF86-096FD4398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ACA8-9A25-4F64-9432-2F9242DD7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52EC-033E-45AA-8B10-5E3CE057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404A-26EF-4610-8BF9-F527FF3FB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B496-625A-4D8B-800B-25B6BBE6D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AD76-2272-41B7-886B-FE978B45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8DC6-19D4-48B5-A562-72EE6DAC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6E74-B628-466D-BEB1-5F3F91B6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1FE6-6FB7-41BF-B9EE-0ABBCA8C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FCB6-84AA-4FB2-9247-65F7B17B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25CB-9063-4647-872E-6DCE00C7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3293-483E-4D7F-ABC0-E901391F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BB31-22D0-49D3-B61E-D9ED8055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esy Nick McKeown, Stanford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4B5F-C04A-47EB-899A-79131A226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ools.ietf.org/html/rfc791" TargetMode="Externa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8191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3 and the Internet Protocol (I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4251240"/>
            <a:ext cx="534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Tahir Az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886200"/>
            <a:ext cx="73152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4) addresses are 32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interface has a unique IP addr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might have two or more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ter has many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hierarc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ntain a network ID and a host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Stanford addresses start with: 171.64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assigned statically or dynamically (e.g. DH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6) addresses are 128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P Dat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08320" y="2425680"/>
            <a:ext cx="6033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l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82680" y="1905120"/>
            <a:ext cx="7063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82680" y="2946240"/>
            <a:ext cx="1413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95680" y="1905120"/>
            <a:ext cx="141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08320" y="2946240"/>
            <a:ext cx="2826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89000" y="190512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08320" y="1905120"/>
            <a:ext cx="2826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tal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82680" y="2425680"/>
            <a:ext cx="2825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1680" y="2425680"/>
            <a:ext cx="222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AG Off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5680" y="2946240"/>
            <a:ext cx="1412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82680" y="3467160"/>
            <a:ext cx="5651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RC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82680" y="3987720"/>
            <a:ext cx="5651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ST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82680" y="4508640"/>
            <a:ext cx="4944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OP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7640" y="450864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P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59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22304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8880" y="3657600"/>
            <a:ext cx="13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=64 K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7724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7724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1905120"/>
            <a:ext cx="1600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 within original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324480" y="228600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2666880"/>
            <a:ext cx="130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p 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2946240"/>
            <a:ext cx="38916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5200" y="5638680"/>
            <a:ext cx="54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ools.ietf.org/html/rfc7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etworksorcery.com/enp/default0904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9144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riginal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ere were 5 clas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16160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A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4824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57440" y="1419120"/>
            <a:ext cx="14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71880" y="1419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81480" y="1673280"/>
            <a:ext cx="103500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1682640"/>
            <a:ext cx="199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91000" y="16826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167328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167328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362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B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2428920"/>
            <a:ext cx="39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0" y="242892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5796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419200"/>
            <a:ext cx="924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86560" y="1403280"/>
            <a:ext cx="618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57440" y="216540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16540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81560" y="2139840"/>
            <a:ext cx="61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8148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1179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C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7440" y="3184560"/>
            <a:ext cx="39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76800" y="318456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96200" y="3174840"/>
            <a:ext cx="103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96200" y="31748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0988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57440" y="292104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292104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24800" y="2905200"/>
            <a:ext cx="618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81480" y="317484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3879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D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57440" y="3946680"/>
            <a:ext cx="51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81360" y="3946680"/>
            <a:ext cx="2219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ulticast Group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3936960"/>
            <a:ext cx="364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387972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05320" y="3683160"/>
            <a:ext cx="276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48400" y="3683160"/>
            <a:ext cx="447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81480" y="3936960"/>
            <a:ext cx="50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46418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57440" y="4708440"/>
            <a:ext cx="657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81360" y="4708440"/>
            <a:ext cx="2219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71880" y="4699080"/>
            <a:ext cx="356256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46418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33760" y="4444920"/>
            <a:ext cx="276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4444920"/>
            <a:ext cx="447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81480" y="4699080"/>
            <a:ext cx="59040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1648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5796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9620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48240" y="1673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4192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19600" y="3165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87280" y="537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03480" y="56340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0348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989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991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372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516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1600" y="52578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07360" y="52578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49280" y="52578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14280" y="52578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944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57320" y="56372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35920" y="5637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1800" spc="-1" strike="noStrike" baseline="30000">
                <a:solidFill>
                  <a:srgbClr val="000099"/>
                </a:solidFill>
                <a:latin typeface="Comic Sans MS"/>
              </a:rPr>
              <a:t>32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2046240"/>
            <a:ext cx="76201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A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ww.mit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8.181.0.3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8&lt;128 =&gt; Class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B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mekong.stanford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71.64.74.15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28&lt;171&lt;128+64 =&gt; Class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25840" y="5181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classes were too “rigid”. For most organizations, Class C were too small and Class B too big. Led to inefficient use of address space, and a shortage of addr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s with internal routers needed to have a separate (Class C) network ID for each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n every other router in the Internet had to know about every network ID in every organization, which led to large address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organizations wanted Class B in case they grew to more than 255 hosts. But there were only about 16,000 Class B network ID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Two solutions were introduc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bn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in an organization to subdivide the organization’s network 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assless Interdomain Rou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IDR) in the Internet backbone was introduced in 1993 to provide more efficient and flexible use of IP address sp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DR is also known as “supernetting” because subnetting and CIDR are basically the same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: The Internet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P Datagram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less Interdomain Routing (CI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ide: Turning names into addresses (D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ing IP Dat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s packets from sending to receiving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sending side, encapsulates packets into dat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receiving side, delivers the packet to the transport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layer protocols run on every host and router in the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outer examines header fields in all IP datagrams passing throug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Network-Laye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packets from router’s input to appropriate router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path taken by packets to go from sender to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algorithms”: run at routers to determine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have “forwarding tab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destination address in datagram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17560" y="259092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17560" y="311148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17560" y="415296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311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/ 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632040"/>
            <a:ext cx="12189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364824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3127320"/>
            <a:ext cx="9907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3127320"/>
            <a:ext cx="533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3784680"/>
            <a:ext cx="15238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3784680"/>
            <a:ext cx="5335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34956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31273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37846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 Dat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2120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ocol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523880"/>
            <a:ext cx="7238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haracteristics of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ONNECTIONLESS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is-sequ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UNRELIABLE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ay drop packet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EST EFFOR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… but only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DATAGRA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dividually ro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6880" y="4554360"/>
            <a:ext cx="1546200" cy="849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482840" y="4299120"/>
            <a:ext cx="380880" cy="380880"/>
            <a:chOff x="1482840" y="4299120"/>
            <a:chExt cx="380880" cy="380880"/>
          </a:xfrm>
        </p:grpSpPr>
        <p:sp>
          <p:nvSpPr>
            <p:cNvPr id="81" name=""/>
            <p:cNvSpPr/>
            <p:nvPr/>
          </p:nvSpPr>
          <p:spPr>
            <a:xfrm>
              <a:off x="1482840" y="4299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22800" y="431640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927520" y="476712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23920" y="4809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90800" y="44197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95120" y="4462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90800" y="51642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95120" y="52070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54440" y="478296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58760" y="48261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118200" y="4316400"/>
            <a:ext cx="380880" cy="380880"/>
            <a:chOff x="6118200" y="4316400"/>
            <a:chExt cx="380880" cy="380880"/>
          </a:xfrm>
        </p:grpSpPr>
        <p:sp>
          <p:nvSpPr>
            <p:cNvPr id="92" name=""/>
            <p:cNvSpPr/>
            <p:nvPr/>
          </p:nvSpPr>
          <p:spPr>
            <a:xfrm>
              <a:off x="6118200" y="43164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47000" y="433368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84464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4360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63880" y="4554360"/>
            <a:ext cx="677880" cy="26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75000" y="46450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4641840"/>
            <a:ext cx="33192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187960" y="455616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411480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419112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49400" y="4678200"/>
            <a:ext cx="677880" cy="26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84720" y="5170320"/>
            <a:ext cx="263520" cy="13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70320" y="51688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235480" y="470844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191120"/>
            <a:ext cx="2514600" cy="1487520"/>
          </a:xfrm>
          <a:custGeom>
            <a:avLst/>
            <a:gdLst/>
            <a:ahLst/>
            <a:rect l="l" t="t" r="r" b="b"/>
            <a:pathLst>
              <a:path w="1584" h="937">
                <a:moveTo>
                  <a:pt x="342" y="787"/>
                </a:moveTo>
                <a:cubicBezTo>
                  <a:pt x="349" y="815"/>
                  <a:pt x="357" y="885"/>
                  <a:pt x="396" y="889"/>
                </a:cubicBezTo>
                <a:cubicBezTo>
                  <a:pt x="426" y="892"/>
                  <a:pt x="456" y="893"/>
                  <a:pt x="486" y="895"/>
                </a:cubicBezTo>
                <a:cubicBezTo>
                  <a:pt x="529" y="924"/>
                  <a:pt x="598" y="931"/>
                  <a:pt x="648" y="937"/>
                </a:cubicBezTo>
                <a:cubicBezTo>
                  <a:pt x="784" y="935"/>
                  <a:pt x="920" y="935"/>
                  <a:pt x="1056" y="931"/>
                </a:cubicBezTo>
                <a:cubicBezTo>
                  <a:pt x="1082" y="930"/>
                  <a:pt x="1128" y="901"/>
                  <a:pt x="1128" y="901"/>
                </a:cubicBezTo>
                <a:cubicBezTo>
                  <a:pt x="1183" y="908"/>
                  <a:pt x="1241" y="920"/>
                  <a:pt x="1278" y="871"/>
                </a:cubicBezTo>
                <a:cubicBezTo>
                  <a:pt x="1306" y="786"/>
                  <a:pt x="1426" y="791"/>
                  <a:pt x="1494" y="757"/>
                </a:cubicBezTo>
                <a:cubicBezTo>
                  <a:pt x="1509" y="734"/>
                  <a:pt x="1527" y="714"/>
                  <a:pt x="1542" y="691"/>
                </a:cubicBezTo>
                <a:cubicBezTo>
                  <a:pt x="1554" y="642"/>
                  <a:pt x="1568" y="595"/>
                  <a:pt x="1584" y="547"/>
                </a:cubicBezTo>
                <a:cubicBezTo>
                  <a:pt x="1577" y="442"/>
                  <a:pt x="1574" y="450"/>
                  <a:pt x="1548" y="373"/>
                </a:cubicBezTo>
                <a:cubicBezTo>
                  <a:pt x="1551" y="327"/>
                  <a:pt x="1574" y="273"/>
                  <a:pt x="1548" y="235"/>
                </a:cubicBezTo>
                <a:cubicBezTo>
                  <a:pt x="1544" y="230"/>
                  <a:pt x="1536" y="232"/>
                  <a:pt x="1530" y="229"/>
                </a:cubicBezTo>
                <a:cubicBezTo>
                  <a:pt x="1514" y="222"/>
                  <a:pt x="1498" y="213"/>
                  <a:pt x="1482" y="205"/>
                </a:cubicBezTo>
                <a:cubicBezTo>
                  <a:pt x="1448" y="188"/>
                  <a:pt x="1408" y="180"/>
                  <a:pt x="1374" y="163"/>
                </a:cubicBezTo>
                <a:cubicBezTo>
                  <a:pt x="1342" y="147"/>
                  <a:pt x="1325" y="116"/>
                  <a:pt x="1296" y="97"/>
                </a:cubicBezTo>
                <a:cubicBezTo>
                  <a:pt x="1248" y="65"/>
                  <a:pt x="1205" y="27"/>
                  <a:pt x="1152" y="1"/>
                </a:cubicBezTo>
                <a:cubicBezTo>
                  <a:pt x="1120" y="6"/>
                  <a:pt x="1104" y="18"/>
                  <a:pt x="1074" y="25"/>
                </a:cubicBezTo>
                <a:cubicBezTo>
                  <a:pt x="1006" y="20"/>
                  <a:pt x="944" y="9"/>
                  <a:pt x="876" y="1"/>
                </a:cubicBezTo>
                <a:cubicBezTo>
                  <a:pt x="818" y="3"/>
                  <a:pt x="760" y="0"/>
                  <a:pt x="702" y="7"/>
                </a:cubicBezTo>
                <a:cubicBezTo>
                  <a:pt x="688" y="9"/>
                  <a:pt x="680" y="27"/>
                  <a:pt x="666" y="31"/>
                </a:cubicBezTo>
                <a:cubicBezTo>
                  <a:pt x="612" y="46"/>
                  <a:pt x="591" y="45"/>
                  <a:pt x="522" y="49"/>
                </a:cubicBezTo>
                <a:cubicBezTo>
                  <a:pt x="464" y="53"/>
                  <a:pt x="348" y="61"/>
                  <a:pt x="348" y="61"/>
                </a:cubicBezTo>
                <a:cubicBezTo>
                  <a:pt x="334" y="63"/>
                  <a:pt x="319" y="62"/>
                  <a:pt x="306" y="67"/>
                </a:cubicBezTo>
                <a:cubicBezTo>
                  <a:pt x="281" y="77"/>
                  <a:pt x="283" y="112"/>
                  <a:pt x="264" y="127"/>
                </a:cubicBezTo>
                <a:cubicBezTo>
                  <a:pt x="254" y="135"/>
                  <a:pt x="240" y="140"/>
                  <a:pt x="228" y="145"/>
                </a:cubicBezTo>
                <a:cubicBezTo>
                  <a:pt x="208" y="154"/>
                  <a:pt x="183" y="154"/>
                  <a:pt x="162" y="163"/>
                </a:cubicBezTo>
                <a:cubicBezTo>
                  <a:pt x="145" y="170"/>
                  <a:pt x="114" y="187"/>
                  <a:pt x="114" y="187"/>
                </a:cubicBezTo>
                <a:cubicBezTo>
                  <a:pt x="42" y="284"/>
                  <a:pt x="101" y="195"/>
                  <a:pt x="90" y="481"/>
                </a:cubicBezTo>
                <a:cubicBezTo>
                  <a:pt x="89" y="505"/>
                  <a:pt x="94" y="534"/>
                  <a:pt x="78" y="553"/>
                </a:cubicBezTo>
                <a:cubicBezTo>
                  <a:pt x="60" y="574"/>
                  <a:pt x="32" y="581"/>
                  <a:pt x="12" y="601"/>
                </a:cubicBezTo>
                <a:cubicBezTo>
                  <a:pt x="7" y="615"/>
                  <a:pt x="0" y="635"/>
                  <a:pt x="0" y="649"/>
                </a:cubicBezTo>
                <a:cubicBezTo>
                  <a:pt x="0" y="767"/>
                  <a:pt x="130" y="741"/>
                  <a:pt x="210" y="763"/>
                </a:cubicBezTo>
                <a:cubicBezTo>
                  <a:pt x="241" y="772"/>
                  <a:pt x="259" y="786"/>
                  <a:pt x="288" y="799"/>
                </a:cubicBezTo>
                <a:cubicBezTo>
                  <a:pt x="300" y="804"/>
                  <a:pt x="316" y="821"/>
                  <a:pt x="324" y="811"/>
                </a:cubicBezTo>
                <a:cubicBezTo>
                  <a:pt x="330" y="803"/>
                  <a:pt x="336" y="795"/>
                  <a:pt x="342" y="787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36600" y="4782960"/>
            <a:ext cx="5666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08280" y="4782960"/>
            <a:ext cx="30456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181480" y="4160880"/>
            <a:ext cx="876240" cy="228600"/>
            <a:chOff x="5181480" y="4160880"/>
            <a:chExt cx="876240" cy="228600"/>
          </a:xfrm>
        </p:grpSpPr>
        <p:sp>
          <p:nvSpPr>
            <p:cNvPr id="110" name=""/>
            <p:cNvSpPr/>
            <p:nvPr/>
          </p:nvSpPr>
          <p:spPr>
            <a:xfrm>
              <a:off x="5181480" y="4160880"/>
              <a:ext cx="56700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3160" y="4160880"/>
              <a:ext cx="30456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200560" y="50292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86600" y="5130720"/>
            <a:ext cx="101520" cy="920880"/>
          </a:xfrm>
          <a:custGeom>
            <a:avLst/>
            <a:gdLst>
              <a:gd name="textAreaLeft" fmla="*/ 0 w 101520"/>
              <a:gd name="textAreaRight" fmla="*/ 36720 w 101520"/>
              <a:gd name="textAreaTop" fmla="*/ 23760 h 920880"/>
              <a:gd name="textAreaBottom" fmla="*/ 89712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5383080"/>
            <a:ext cx="17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752720" y="5403600"/>
            <a:ext cx="447480" cy="376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190520" y="2343240"/>
            <a:ext cx="380880" cy="380880"/>
            <a:chOff x="1190520" y="2343240"/>
            <a:chExt cx="380880" cy="380880"/>
          </a:xfrm>
        </p:grpSpPr>
        <p:sp>
          <p:nvSpPr>
            <p:cNvPr id="119" name=""/>
            <p:cNvSpPr/>
            <p:nvPr/>
          </p:nvSpPr>
          <p:spPr>
            <a:xfrm>
              <a:off x="119052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30480" y="236052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371600" y="272412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70504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90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7000" y="3029040"/>
            <a:ext cx="223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33560" y="3683160"/>
            <a:ext cx="26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670720" y="3029040"/>
            <a:ext cx="653760" cy="65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707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4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346880" y="2343240"/>
            <a:ext cx="380880" cy="380880"/>
            <a:chOff x="7346880" y="2343240"/>
            <a:chExt cx="380880" cy="380880"/>
          </a:xfrm>
        </p:grpSpPr>
        <p:sp>
          <p:nvSpPr>
            <p:cNvPr id="130" name=""/>
            <p:cNvSpPr/>
            <p:nvPr/>
          </p:nvSpPr>
          <p:spPr>
            <a:xfrm>
              <a:off x="734688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75680" y="236052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7527960" y="2705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30320" y="2057400"/>
            <a:ext cx="96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61040" y="2057400"/>
            <a:ext cx="147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00560" y="32576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&lt;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371600"/>
            <a:ext cx="819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Proble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 router may receive a packet larger than the maximum transmission unit (MTU) of the outgoing l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76360" y="340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34545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129200"/>
            <a:ext cx="9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Solution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1 fragments the IP datagram into mutiple, self-contained data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76360" y="4710240"/>
            <a:ext cx="2729160" cy="3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710240"/>
            <a:ext cx="1218960" cy="3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572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0024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720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9628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85800" y="5105520"/>
            <a:ext cx="169056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5105520"/>
            <a:ext cx="239076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76920"/>
            <a:ext cx="1476360" cy="533160"/>
          </a:xfrm>
          <a:prstGeom prst="wedgeRoundRectCallout">
            <a:avLst>
              <a:gd name="adj1" fmla="val 92796"/>
              <a:gd name="adj2" fmla="val 10356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&gt;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5867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94680" y="4710240"/>
            <a:ext cx="1476360" cy="533160"/>
          </a:xfrm>
          <a:prstGeom prst="wedgeRoundRectCallout">
            <a:avLst>
              <a:gd name="adj1" fmla="val -13870"/>
              <a:gd name="adj2" fmla="val 13987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gments are re-assembled by the destination host; not by intermediate rou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fragmentation, hosts commonly use path MTU discovery to find the smallest MTU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MTU discovery involves sending various size datagrams until they do not require fragmentation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inks use MTU&gt;=1500bytes to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: 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F=1 set in IP header; routers send “ICMP” error message, which is shown as “!F”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onu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you find a destination for which the path MTU &lt; 1500 by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25480" y="1600200"/>
            <a:ext cx="351792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ell why the data field is 3280 bytes rather than 330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0440" y="6095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: tcpipguid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9:05:03Z</dcterms:created>
  <dc:creator>tahir</dc:creator>
  <dc:description/>
  <dc:language>en-US</dc:language>
  <cp:lastModifiedBy>tahir</cp:lastModifiedBy>
  <dcterms:modified xsi:type="dcterms:W3CDTF">2008-03-26T19:31:12Z</dcterms:modified>
  <cp:revision>26</cp:revision>
  <dc:subject/>
  <dc:title>Slide 1</dc:title>
</cp:coreProperties>
</file>